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FEE4-5DA2-471E-858E-2047F56B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DDE-8125-4313-B1C9-3FC9579A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17A1-5F08-4C18-B350-D8E95C09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B194-FCFD-4DAB-A6EC-F9E5A37F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C81C-EFEA-423A-A7B5-100944C7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1C7-E3E3-4E5F-8B18-F73BB8BD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1843-97A0-4DEE-8B75-0438BDDF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130-DAC2-438A-89D0-4D067FC3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A8A-BE88-413A-87A1-5D1815FC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7D9E-C417-4CE8-B7A6-931AA9FC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7F2-6CA5-42E6-A446-EA58DA45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7E5-EC17-47C9-B197-68463B9B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54CC-E0AD-4B23-8DB1-53C9783D2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o 6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is may change if more work comes 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uch here…decent webpage.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more detail needed here -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n’t really see one…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used to do it --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7:38:16Z</dcterms:created>
  <dc:creator>nbdoe</dc:creator>
  <dc:description/>
  <dc:language>en-US</dc:language>
  <cp:lastModifiedBy>nbdoe</cp:lastModifiedBy>
  <dcterms:modified xsi:type="dcterms:W3CDTF">2007-05-09T17:38:48Z</dcterms:modified>
  <cp:revision>3</cp:revision>
  <dc:subject/>
  <dc:title>Election 2007</dc:title>
</cp:coreProperties>
</file>